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7D8A-03D3-4908-95DE-BB2362B3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E0D4-53C1-47A8-ADC4-183AB924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29BBC1-118E-4D22-A4B8-ECA13BE5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0F6646-2F04-4017-A415-09E8A3F0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70FFD7-9BD7-41FD-BC50-57395C38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D0CA4B-53FD-4050-92E0-B93A15E0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21B916-FD33-4204-ABCA-CA31845C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D745C4-9FE7-48B4-B669-30254436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675BA5-3DA5-4013-961B-CA08AAC1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C5CBBC-5F78-46CF-844B-69491EE0E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D5E8CC-193D-4A84-94DF-A5BBE9C3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33555B-9843-4953-8913-2AAAE859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1B38-9A6B-4C8E-9259-000B37556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7A486B-9185-4D24-83D1-A51399AF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289AB7-D463-4CE9-950B-8894DB74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0DDC61-CB1D-45EA-9ED9-89BB2300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AB879B-2F0F-4653-81D1-19E849C6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A8141D-C7A0-47E3-BEF9-1FF3D682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15263D-6CC5-4126-90DE-94816521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B88EE2-1180-4A96-A346-5075D817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76E95C-2D4D-4C28-ADC6-6BABF1CE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E3A234-A857-41B8-8881-354DEFBA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5FEEC4-8533-48B3-B402-10B71E204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5DE3-4E05-4A71-BA6B-1A7762A57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444687-C841-4330-AD09-7A6065A8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2A8A9-A0E1-4BD3-825E-665E7AEA1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6148C-FC16-43DE-8855-CAB4117B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082BF-6BD2-4A24-BF9A-EC9122D0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AB2BD-689B-49DD-9D41-457A3708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CEE41-661E-437C-BBD3-4366E1B3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17741-F074-4B52-AFC8-A3DBBB3B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A6D38-B8D6-4F62-9246-C08A566E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BED83-CC5D-4C30-A387-3961074D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8B54E-966C-42C9-B6E8-E7CC318C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6E1F-F559-41BD-A57F-FBD404B0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4722A-014C-4D70-B768-006F2F7C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79F0D-9583-4D42-8603-9B97D379D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735EF-0871-4583-BB7B-AF6A14DD1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F28AD9-409D-4F92-99D6-D9D9F5076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AFEBF4-5510-448C-B4D4-AF0D2DF7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69EFFC-E958-4EE4-805C-488C5258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FEDEF1-16EC-4B53-AB09-82F16771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C0E687-B790-40D2-A0EE-D574332E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E81D8C-545D-40C7-84FA-0C85B478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DF4A35-58C9-418A-AAAA-0FB8DFD9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FDDA-2FF2-4B42-84EF-EFF090CD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EDC6F3-3198-4EEC-8C56-1D9C4BBA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06DF95-E662-4943-9474-CBD19369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817894-DDBF-4794-93FB-7A3D877E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D386DE-DB1A-49F3-8AF9-1D98FE56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1AE72B-C71C-450C-8A76-99C643193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B5AD-7D60-4649-8342-2DE386CC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2EC5-54D0-4232-8E04-9FBA57DB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EB51-8429-41AD-A0A1-235AA299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6C2B-B0CC-49DE-9369-6364CB32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0982-6E48-45CE-B251-B903E085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EF60-0A3B-49D6-93AC-C3A34F93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9C8A-D680-43D3-ADFC-18A7F8AA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470F-FF0E-432C-A564-13055D2E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F943-8A97-4045-8BA7-7227F4F6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0B41-7D0C-46FE-BDB9-966C07A76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10A0-BEB8-4139-B542-7F53401D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EF994-D050-42FC-9D40-E7D68F5A3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01EC2-1E16-4D2B-95F3-A4C2801A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EB96A-D719-4CD0-BB53-D37AF188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52B2A-E7A5-4617-8E01-CA9930E8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FDC3D-EB0A-42D6-892C-7392126A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9D4A-6E21-4658-9A21-EFE26E82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97392-A9D8-45B8-AAA2-B0A0DC8E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C964C-2597-40B1-84A3-15A83ED6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1A60C-4EAC-4352-89AF-DB223100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98247-D245-47D4-B9CF-A951F6D4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4E28D-D42E-472E-8511-93A4E219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D5A0B-B6CB-4921-B24B-45C09B3A1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FEA2B-29DE-4467-A419-80E139AF3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79B0D-F868-4314-871F-1DF14FF8E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61E11-AB7F-428E-85E7-5E31B37D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1CFB9-1AEF-43CB-B52B-4DA4B7AA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1C1D-03C1-4686-BE4F-3008A5BB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3C782-066F-4601-ADAA-FEC6876A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ADDE8-EBF4-432A-9A58-603309F6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E4D9A-29A9-46EF-867C-50E266DA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63238-E724-48E2-89CD-34DB42AF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6245A-2619-43CB-BDB2-0AA7FBE4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ACB22-BBDD-426B-B75F-3B1183E2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BD9CB-DF10-46B0-9CDE-CF31C029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80CFF-227F-4DC7-B0F1-A714AF8A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6A315-97F6-45E4-9997-3ED38AAC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DC80B-08B0-4E62-8253-BAE975B0F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35FD-CDBB-4794-AFB1-2E009FC3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F760B-0E6C-49AC-A54A-95B8C9D4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C652C-154E-4EF4-8AF2-4BEC3FEC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0F0DC-677C-416F-ACDA-31991647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C7249-340C-4AB0-A4EB-00E1E9A1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6DAC4-91BE-4505-9DE4-D89AB5C7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616D4-8285-4B04-8151-803E8C5E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A65DE-8FBB-47F2-AD98-C490DD47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59BBD-49E9-4880-B664-D64C39E6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38FDC-B1E5-4093-8129-CD56C8F9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BB7DF-C83D-48AC-B99C-AFEE310C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2DA1-BA8E-4C86-BAE8-6593AEE0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2A8FD-75C4-48B2-A036-5AF052BE6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2A33A-B4D6-45BC-B628-3980466F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05AB9-B5D3-462B-8882-379F8709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38728-B88C-4F7B-8BE8-445DF74F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408BA-1F41-4218-8897-9D960D77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23AC9-049E-473F-8223-47D55D14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2559E-AC40-400F-AC23-4919CCD2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5BD99-D2A0-4501-AFAD-9458948F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DDD03-0229-4583-A2E6-051E7ED9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4B618-6617-4137-AA95-63B2DCC2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6F5C-38A1-4BA4-9198-40A04380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92E71-EAD7-4329-BB7C-CAAB74E8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A82CF-3489-4CBE-9FF3-DF98344F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4178F-DD58-45C5-841E-74F6C3953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0AF76-0CCA-41DA-AE27-827D118B7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79F1B-895B-4844-9187-3F174BD5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51F00-2C60-445C-BDE7-D5344A90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2B133-8C82-423C-9DBE-9690DE8D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AF955-E071-42A1-B834-FAC84C7A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7372F-AA80-447B-B0FE-3AFF8727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18244-2537-4057-9280-932C8126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D492-EDC7-4862-B7D6-35C51C29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FF073-A54F-4289-BD65-E55361CF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298C8-E08B-403B-BB22-FD3CCAF7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93F63-FCF0-4B02-9C00-43E80311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68803-BEFD-4B39-99A7-C8B71746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19C08-C764-460E-A8E9-0B4843558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C1B92-AC6A-4D2B-A2D4-3797B1757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8D16C-5232-4FB3-9E33-C665457E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57C19-C04A-4B31-9401-1CC1B24D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4558B-B1F3-4F06-8013-9104ABCC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3A4EC-394B-4717-A5A3-0F33D5EF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5B49-42CC-43E6-A40F-0B0634D3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40DD3-D3DD-4346-8F86-B9807FD0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D6536-D775-4C9C-BAF4-E90B3703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8F77E-AAFE-4A30-8C51-7BC47411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A2845-FFD4-4F36-A99B-E8AA7DA3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BA88E-B163-4F8B-9D83-7298D63B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6FA52-4E6E-42EF-B5BB-4140E48A0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6B7E5-7B21-4A7A-81B9-0EC0C875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4E66C8-440E-4B27-A556-1DC1E49C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03E46A-5BC1-4BF0-A702-6859A16A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797EB8-3FF9-4321-B046-185062B5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3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02d8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2d8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A067-FCDB-4730-900B-04E13EB5A565}" type="slidenum">
              <a:rPr b="0" lang="en-US" sz="1600" spc="-1" strike="noStrike">
                <a:solidFill>
                  <a:srgbClr val="002d8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d8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349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02d8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003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3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d8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349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2d8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99A2-168D-4714-BDC6-991DFFB825AF}" type="slidenum">
              <a:rPr b="0" lang="en-US" sz="1600" spc="-1" strike="noStrike">
                <a:solidFill>
                  <a:srgbClr val="002d8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4b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3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02d8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d8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349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2d8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9097-6E1B-4FD8-9E45-919BED4DB425}" type="slidenum">
              <a:rPr b="0" lang="en-US" sz="1600" spc="-1" strike="noStrike">
                <a:solidFill>
                  <a:srgbClr val="002d8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4b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03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002d8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d8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349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2d8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527A-A9C9-4442-86FD-05396A162730}" type="slidenum">
              <a:rPr b="0" lang="en-US" sz="1600" spc="-1" strike="noStrike">
                <a:solidFill>
                  <a:srgbClr val="002d8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4b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03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002d8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0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d8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349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2d8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B183-8115-4337-B90E-DD725D42F2D7}" type="slidenum">
              <a:rPr b="0" lang="en-US" sz="1600" spc="-1" strike="noStrike">
                <a:solidFill>
                  <a:srgbClr val="002d8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4b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3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02d8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d8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349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2d8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777B-082E-4BC9-A525-1834B3F6B785}" type="slidenum">
              <a:rPr b="0" lang="en-US" sz="1600" spc="-1" strike="noStrike">
                <a:solidFill>
                  <a:srgbClr val="002d8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03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0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002d8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d8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349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2d8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A21A-66F3-41E8-83FF-8DBFF5B8B13A}" type="slidenum">
              <a:rPr b="0" lang="en-US" sz="1600" spc="-1" strike="noStrike">
                <a:solidFill>
                  <a:srgbClr val="002d8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4b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3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02d8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00349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d8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349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2d8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1CB6-78EF-4D9D-8905-AB2F0217EEB1}" type="slidenum">
              <a:rPr b="0" lang="en-US" sz="1600" spc="-1" strike="noStrike">
                <a:solidFill>
                  <a:srgbClr val="002d8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4b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00349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003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002d8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d8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349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2d8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E484-4A3D-48B0-A9E9-8ADFC6374017}" type="slidenum">
              <a:rPr b="0" lang="en-US" sz="1600" spc="-1" strike="noStrike">
                <a:solidFill>
                  <a:srgbClr val="002d8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3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02d8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d8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349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2d8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07DF-C8C6-4AFF-8626-C80913A7635A}" type="slidenum">
              <a:rPr b="0" lang="en-US" sz="1600" spc="-1" strike="noStrike">
                <a:solidFill>
                  <a:srgbClr val="002d8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03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00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d8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349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FA17-5AA6-4D2B-963D-69DBE16027D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003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0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02d8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2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3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d8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349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2d8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4DB5-965F-4A2E-8E77-71473E77C291}" type="slidenum">
              <a:rPr b="0" lang="en-US" sz="1600" spc="-1" strike="noStrike">
                <a:solidFill>
                  <a:srgbClr val="002d8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6zvqH1q-FsRMXM&amp;tbnid=c-mZ92lHuJ86xM:&amp;ved=0CAUQjRw&amp;url=http://blog-easy-makemoney.blogspot.com/&amp;ei=lDk6UeK8HIaJ2AWRk4GwCQ&amp;bvm=bv.43287494,d.b2I&amp;psig=AFQjCNGFiHuX4dyWrY0K1eh9xMiXn857bw&amp;ust=1362856229965496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49e"/>
                </a:solidFill>
                <a:latin typeface="Georgia"/>
              </a:rPr>
              <a:t>NICOLE HARVE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49e"/>
                </a:solidFill>
                <a:latin typeface="Georgia"/>
              </a:rPr>
              <a:t>SHANE PRUETT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49e"/>
                </a:solidFill>
                <a:latin typeface="Georgia"/>
              </a:rPr>
              <a:t>BAILEY YOUNG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49e"/>
                </a:solidFill>
                <a:latin typeface="Georgia"/>
              </a:rPr>
              <a:t>AP GOVERNMENT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49e"/>
                </a:solidFill>
                <a:latin typeface="Georgia"/>
              </a:rPr>
              <a:t>6</a:t>
            </a:r>
            <a:r>
              <a:rPr b="1" lang="en-US" sz="1600" spc="-1" strike="noStrike" baseline="30000">
                <a:solidFill>
                  <a:srgbClr val="00349e"/>
                </a:solidFill>
                <a:latin typeface="Georgia"/>
              </a:rPr>
              <a:t>TH</a:t>
            </a:r>
            <a:r>
              <a:rPr b="1" lang="en-US" sz="1600" spc="-1" strike="noStrike">
                <a:solidFill>
                  <a:srgbClr val="00349e"/>
                </a:solidFill>
                <a:latin typeface="Georgia"/>
              </a:rPr>
              <a:t> PERIOD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bd3"/>
                </a:solidFill>
                <a:latin typeface="Georgia"/>
              </a:rPr>
              <a:t>What decides elections?</a:t>
            </a:r>
            <a:endParaRPr b="0" lang="en-US" sz="4200" spc="-1" strike="noStrike">
              <a:solidFill>
                <a:srgbClr val="002d8b"/>
              </a:solidFill>
              <a:latin typeface="Georgia"/>
            </a:endParaRPr>
          </a:p>
        </p:txBody>
      </p:sp>
    </p:spTree>
  </p:cSld>
  <p:transition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d8b"/>
                </a:solidFill>
                <a:latin typeface="Georgia"/>
              </a:rPr>
              <a:t>Parties</a:t>
            </a: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rongest determination for elec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mocra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49e"/>
                </a:solidFill>
                <a:latin typeface="Georgia"/>
              </a:rPr>
              <a:t>Less attached</a:t>
            </a:r>
            <a:endParaRPr b="0" lang="en-US" sz="2200" spc="-1" strike="noStrike">
              <a:solidFill>
                <a:srgbClr val="00349e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publica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49e"/>
                </a:solidFill>
                <a:latin typeface="Georgia"/>
              </a:rPr>
              <a:t>Higher voting percentage</a:t>
            </a:r>
            <a:endParaRPr b="0" lang="en-US" sz="2200" spc="-1" strike="noStrike">
              <a:solidFill>
                <a:srgbClr val="00349e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49e"/>
                </a:solidFill>
                <a:latin typeface="Georgia"/>
              </a:rPr>
              <a:t>Firmly aligned </a:t>
            </a:r>
            <a:endParaRPr b="0" lang="en-US" sz="2200" spc="-1" strike="noStrike">
              <a:solidFill>
                <a:srgbClr val="00349e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49e"/>
                </a:solidFill>
                <a:latin typeface="Georgia"/>
              </a:rPr>
              <a:t>Independent voters</a:t>
            </a:r>
            <a:endParaRPr b="0" lang="en-US" sz="2200" spc="-1" strike="noStrike">
              <a:solidFill>
                <a:srgbClr val="00349e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49e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49e"/>
              </a:solidFill>
              <a:latin typeface="Georgia"/>
            </a:endParaRPr>
          </a:p>
        </p:txBody>
      </p:sp>
      <p:pic>
        <p:nvPicPr>
          <p:cNvPr id="610" name="Picture 2" descr="http://3.bp.blogspot.com/-fvzrmIdO6a8/UDTbJ87uYKI/AAAAAAAAF1k/gw8MGWvwtpM/s640/Dem+vs+GOP+Same+Color++-+00.jpg"/>
          <p:cNvPicPr/>
          <p:nvPr/>
        </p:nvPicPr>
        <p:blipFill>
          <a:blip r:embed="rId1"/>
          <a:stretch/>
        </p:blipFill>
        <p:spPr>
          <a:xfrm>
            <a:off x="3882960" y="4108320"/>
            <a:ext cx="4926240" cy="19209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d8b"/>
                </a:solidFill>
                <a:latin typeface="Georgia"/>
              </a:rPr>
              <a:t>Issues</a:t>
            </a: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ospective voting – “forward-looking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49e"/>
                </a:solidFill>
                <a:latin typeface="Georgia"/>
              </a:rPr>
              <a:t>Candidate’s ideas for handling issues</a:t>
            </a:r>
            <a:endParaRPr b="0" lang="en-US" sz="2200" spc="-1" strike="noStrike">
              <a:solidFill>
                <a:srgbClr val="00349e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49e"/>
                </a:solidFill>
                <a:latin typeface="Georgia"/>
              </a:rPr>
              <a:t>Requires a lot of information</a:t>
            </a:r>
            <a:endParaRPr b="0" lang="en-US" sz="2200" spc="-1" strike="noStrike">
              <a:solidFill>
                <a:srgbClr val="00349e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00349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xtra time and strong belief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trospective voting – “backwards-looking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49e"/>
                </a:solidFill>
                <a:latin typeface="Georgia"/>
              </a:rPr>
              <a:t>Candidate’s success while in office</a:t>
            </a:r>
            <a:endParaRPr b="0" lang="en-US" sz="2200" spc="-1" strike="noStrike">
              <a:solidFill>
                <a:srgbClr val="00349e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49e"/>
                </a:solidFill>
                <a:latin typeface="Georgia"/>
              </a:rPr>
              <a:t>Decides elections</a:t>
            </a:r>
            <a:endParaRPr b="0" lang="en-US" sz="2200" spc="-1" strike="noStrike">
              <a:solidFill>
                <a:srgbClr val="00349e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00349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1980 Reagan vs. Carter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49e"/>
                </a:solidFill>
                <a:latin typeface="Georgia"/>
              </a:rPr>
              <a:t>Economic conditions</a:t>
            </a:r>
            <a:endParaRPr b="0" lang="en-US" sz="2200" spc="-1" strike="noStrike">
              <a:solidFill>
                <a:srgbClr val="00349e"/>
              </a:solidFill>
              <a:latin typeface="Georgia"/>
            </a:endParaRPr>
          </a:p>
        </p:txBody>
      </p:sp>
      <p:pic>
        <p:nvPicPr>
          <p:cNvPr id="613" name="Picture 4" descr="http://2.bp.blogspot.com/-Nvsp5ufqBFA/UNu6x_F1fBI/AAAAAAAAAqE/EEbVHYB4DRg/s1600/37250_MONEY_MAGNE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4572000"/>
            <a:ext cx="2125800" cy="17524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8" descr="http://www.imageenvision.com/150/29906-clip-art-graphic-of-a-man-carrying-a-heavy-money-bag-on-his-back-by-djart.jpg"/>
          <p:cNvPicPr/>
          <p:nvPr/>
        </p:nvPicPr>
        <p:blipFill>
          <a:blip r:embed="rId3"/>
          <a:stretch/>
        </p:blipFill>
        <p:spPr>
          <a:xfrm>
            <a:off x="5943600" y="4648320"/>
            <a:ext cx="1676520" cy="16984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7 L 0.15 -0.00162 E">
                                      <p:cBhvr>
                                        <p:cTn id="6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d8b"/>
                </a:solidFill>
                <a:latin typeface="Georgia"/>
              </a:rPr>
              <a:t>Campaign</a:t>
            </a: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awakens partisan loyalties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andidates under pressur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re  values and charact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49e"/>
                </a:solidFill>
                <a:latin typeface="Georgia"/>
              </a:rPr>
              <a:t>Themes and tone of statements</a:t>
            </a:r>
            <a:endParaRPr b="0" lang="en-US" sz="2200" spc="-1" strike="noStrike">
              <a:solidFill>
                <a:srgbClr val="00349e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imary electio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49e"/>
                </a:solidFill>
                <a:latin typeface="Georgia"/>
              </a:rPr>
              <a:t>Activists and single-issue groups</a:t>
            </a:r>
            <a:endParaRPr b="0" lang="en-US" sz="2200" spc="-1" strike="noStrike">
              <a:solidFill>
                <a:srgbClr val="00349e"/>
              </a:solidFill>
              <a:latin typeface="Georgia"/>
            </a:endParaRPr>
          </a:p>
        </p:txBody>
      </p:sp>
      <p:pic>
        <p:nvPicPr>
          <p:cNvPr id="617" name="Picture 2" descr="http://rack.0.mshcdn.com/media/ZgkyMDEyLzEyLzA0Lzk1L2luZm9ybXlvdXJ2LmJYTi5qcGcKcAl0aHVtYgk5NTB4NTM0IwplCWpwZw/4ce92bb3/d4e/inform-your-vote-with-these-6-presidential-campaign-apps-faa5ef2099.jpg"/>
          <p:cNvPicPr/>
          <p:nvPr/>
        </p:nvPicPr>
        <p:blipFill>
          <a:blip r:embed="rId1"/>
          <a:stretch/>
        </p:blipFill>
        <p:spPr>
          <a:xfrm>
            <a:off x="5407200" y="1670040"/>
            <a:ext cx="3260520" cy="18414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2d8b"/>
                </a:solidFill>
                <a:latin typeface="Georgia"/>
              </a:rPr>
              <a:t>Winning Coalition</a:t>
            </a:r>
            <a:endParaRPr b="0" lang="en-US" sz="3300" spc="-1" strike="noStrike">
              <a:solidFill>
                <a:srgbClr val="002d8b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ase voters and swing vote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ampaign targe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49e"/>
                </a:solidFill>
                <a:latin typeface="Georgia"/>
              </a:rPr>
              <a:t>Loyalty</a:t>
            </a:r>
            <a:endParaRPr b="0" lang="en-US" sz="2200" spc="-1" strike="noStrike">
              <a:solidFill>
                <a:srgbClr val="00349e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49e"/>
                </a:solidFill>
                <a:latin typeface="Georgia"/>
              </a:rPr>
              <a:t>Importance</a:t>
            </a:r>
            <a:endParaRPr b="0" lang="en-US" sz="2200" spc="-1" strike="noStrike">
              <a:solidFill>
                <a:srgbClr val="00349e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mocr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49e"/>
                </a:solidFill>
                <a:latin typeface="Georgia"/>
              </a:rPr>
              <a:t>African American loyalty</a:t>
            </a:r>
            <a:endParaRPr b="0" lang="en-US" sz="2200" spc="-1" strike="noStrike">
              <a:solidFill>
                <a:srgbClr val="00349e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49e"/>
                </a:solidFill>
                <a:latin typeface="Georgia"/>
              </a:rPr>
              <a:t>Fewer Catholics, southerners, and unionists</a:t>
            </a:r>
            <a:endParaRPr b="0" lang="en-US" sz="2200" spc="-1" strike="noStrike">
              <a:solidFill>
                <a:srgbClr val="00349e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publica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49e"/>
                </a:solidFill>
                <a:latin typeface="Georgia"/>
              </a:rPr>
              <a:t>Business and professional loyalty</a:t>
            </a:r>
            <a:endParaRPr b="0" lang="en-US" sz="2200" spc="-1" strike="noStrike">
              <a:solidFill>
                <a:srgbClr val="00349e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49e"/>
                </a:solidFill>
                <a:latin typeface="Georgia"/>
              </a:rPr>
              <a:t>Poor</a:t>
            </a:r>
            <a:endParaRPr b="0" lang="en-US" sz="2200" spc="-1" strike="noStrike">
              <a:solidFill>
                <a:srgbClr val="00349e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49e"/>
                </a:solidFill>
                <a:latin typeface="Georgia"/>
              </a:rPr>
              <a:t>Farmers</a:t>
            </a:r>
            <a:endParaRPr b="0" lang="en-US" sz="2200" spc="-1" strike="noStrike">
              <a:solidFill>
                <a:srgbClr val="00349e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05bd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0" name="Picture 7" descr="http://www.clker.com/cliparts/2/4/0/8/1275231627885741326heart%20clipart.png"/>
          <p:cNvPicPr/>
          <p:nvPr/>
        </p:nvPicPr>
        <p:blipFill>
          <a:blip r:embed="rId1"/>
          <a:stretch/>
        </p:blipFill>
        <p:spPr>
          <a:xfrm>
            <a:off x="6172200" y="1600200"/>
            <a:ext cx="2114640" cy="20574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18:48:52Z</dcterms:created>
  <dc:creator>young104727</dc:creator>
  <dc:description/>
  <dc:language>en-US</dc:language>
  <cp:lastModifiedBy>lullmannj</cp:lastModifiedBy>
  <dcterms:modified xsi:type="dcterms:W3CDTF">2013-03-27T12:37:34Z</dcterms:modified>
  <cp:revision>14</cp:revision>
  <dc:subject/>
  <dc:title>What decides elections?</dc:title>
</cp:coreProperties>
</file>